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4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A569-4E9A-4847-8696-006D8062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0F8A-B723-4870-9270-11C6FFE3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C5B3-5334-4E0D-A459-69E34E76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9CCC-1210-4D4B-AE31-59465D74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D592-36D9-482E-BD58-41D8486E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A74D-D054-4ABA-AC07-AD6DE9D3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B65-D2B7-4CF4-BDD3-279D63D8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7641-6EBC-47A5-A42E-3586FAA4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41CD-07A4-4FEA-B750-DAA8F465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A600-D997-4CBA-9690-534FA843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7642-C973-4279-81D7-712E04B0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0737-C5C6-4CEE-AEC6-338F9380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BB3A-1D4B-4D1E-B9DE-6B83219AB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2627280" y="1197000"/>
            <a:ext cx="58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Интергисане академске студије фарм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2471760" y="1628640"/>
            <a:ext cx="44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СНОВИ ФИЗИОЛОГИЈЕ Ч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744360" y="2133720"/>
            <a:ext cx="183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МИНАР БРОЈ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543680" y="2708280"/>
            <a:ext cx="630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0000"/>
                </a:solidFill>
                <a:latin typeface="Calibri"/>
              </a:rPr>
              <a:t>Електрокардиографиј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192280" y="6095880"/>
            <a:ext cx="301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атедра за Физиологиј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гистровање ЕКГ-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КГ се стандардно региструје 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одво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са екстремитета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стандардна биполарна (I, II, III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 појачана униполарна  (aVR, aVL, aVF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са прекордију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1 – V6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аки ЕКГ одвод им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вину = права између постављених елект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ијентацију = положај осовине (хоризонталан, вертикалан, дијагоналан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аритет = ло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ја позитивног и негативног пола електрода ЕКГ апарата које се налазе на крајевима осов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Чему служе одвод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920" y="98100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Биполарним стандардним одводим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I, II, III) региструје се разлика у потенцијалу између два изабрана мес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екстремите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Појачаним униполарним екстремитетни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aVR, aVL, aVF) 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прекордијални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V1 – V6) одводима се региструје укупан потенцијал срца који стиже до одговарајућег екстремитета или тачке прекордију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кстремитетни одводи служе за брзу процену положаја срца у грудној дупљи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екордијални одводи служе за процену физиолошког стања или оштећења срчаног мишића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Биполарни одво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тандардни одводи са екстренитета- одводи  I, II и III региструју разлику потенцијала између два екстремите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 одвод = између десне руке (-) и леве руке (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 одвод = између десне руке (-) и леве ноге (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I одвод = између леве руке (-) и леве ноге (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http://www.cvrti.utah.edu/~macleod/bioen/be6000/labnotes/ecg/figures/limbleads.jpg"/>
          <p:cNvPicPr/>
          <p:nvPr/>
        </p:nvPicPr>
        <p:blipFill>
          <a:blip r:embed="rId1"/>
          <a:stretch/>
        </p:blipFill>
        <p:spPr>
          <a:xfrm>
            <a:off x="5862600" y="3487680"/>
            <a:ext cx="32400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le 1"/>
          <p:cNvSpPr/>
          <p:nvPr/>
        </p:nvSpPr>
        <p:spPr>
          <a:xfrm>
            <a:off x="250920" y="189000"/>
            <a:ext cx="82296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тандардни  биполарни одвод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403280" y="1844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 одв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одво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 од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bipolarni odvodi"/>
          <p:cNvPicPr/>
          <p:nvPr/>
        </p:nvPicPr>
        <p:blipFill>
          <a:blip r:embed="rId1"/>
          <a:stretch/>
        </p:blipFill>
        <p:spPr>
          <a:xfrm>
            <a:off x="1332000" y="2781360"/>
            <a:ext cx="570528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  <a:ea typeface="Arial"/>
              </a:rPr>
              <a:t>Појачани</a:t>
            </a: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000000"/>
                </a:solidFill>
                <a:latin typeface="Arial"/>
                <a:ea typeface="Arial"/>
              </a:rPr>
              <a:t>униполарни</a:t>
            </a: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000000"/>
                </a:solidFill>
                <a:latin typeface="Arial"/>
                <a:ea typeface="Arial"/>
              </a:rPr>
              <a:t>одво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79280" y="162864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R, aVL, aV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= појачање за 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= волтаж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 (right)= десна ру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 (left)= лева ру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 (foot)=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лев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но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зитиван по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е спаја са региструјућим електродама, 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гативан по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са нултом тачком за коју су унутрашњом синхронизацијом повезана сва три екстремите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http://www.cvphysiology.com/Arrhythmias/A013b%20ECG%20aug%20leads.gif"/>
          <p:cNvPicPr/>
          <p:nvPr/>
        </p:nvPicPr>
        <p:blipFill>
          <a:blip r:embed="rId1"/>
          <a:stretch/>
        </p:blipFill>
        <p:spPr>
          <a:xfrm>
            <a:off x="6156360" y="1341360"/>
            <a:ext cx="2808360" cy="496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31687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Униполарни електрокардиографски  одво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0920" y="2133720"/>
            <a:ext cx="42465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ене су позиције за стандардне униполарне одвод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јачани одводи на екстремитетима (aVR, aVL, aVF,) приказани су на десној руци, левој руци и левој ноз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Шест прекордијалних (грудних) одвода(V1-V6) представљено је на својим правим местима постављањ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6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4249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Униполар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рекордијални одво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0920" y="1125360"/>
            <a:ext cx="864216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ложај електро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1 = 4. међуребарни простор уз десну ивицу стерну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2 = 4. међуребарни простор уз леву ивицу стерну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на средини између V2 и V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4 = 5. међуребарни простор на медиоклавикуларној линиј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5 = на предњој аксиларној лин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ста хоризонтална раван као V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6 = на средњој аксиларној лин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ight Brace 4"/>
          <p:cNvSpPr/>
          <p:nvPr/>
        </p:nvSpPr>
        <p:spPr>
          <a:xfrm>
            <a:off x="4500720" y="2565360"/>
            <a:ext cx="360360" cy="86364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863640"/>
              <a:gd name="textAreaBottom" fmla="*/ 8542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6"/>
                  <a:pt x="10800" y="751"/>
                </a:cubicBezTo>
                <a:lnTo>
                  <a:pt x="10800" y="10049"/>
                </a:lnTo>
                <a:cubicBezTo>
                  <a:pt x="10800" y="10425"/>
                  <a:pt x="16200" y="10800"/>
                  <a:pt x="21600" y="10800"/>
                </a:cubicBezTo>
                <a:cubicBezTo>
                  <a:pt x="16200" y="10800"/>
                  <a:pt x="10800" y="11176"/>
                  <a:pt x="10800" y="11551"/>
                </a:cubicBezTo>
                <a:lnTo>
                  <a:pt x="10800" y="20849"/>
                </a:lnTo>
                <a:cubicBezTo>
                  <a:pt x="10800" y="21225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1996920" y="4437000"/>
            <a:ext cx="561672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Шта се може одредити уз помоћ ЕКГ-а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Фреквен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Ри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Осовина (положај срц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Хипертроф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Инфар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4"/>
          <p:cNvSpPr/>
          <p:nvPr/>
        </p:nvSpPr>
        <p:spPr>
          <a:xfrm>
            <a:off x="684360" y="3645000"/>
            <a:ext cx="5256000" cy="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ормалан ЕКГ зап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C:\Users\Korisnik\Desktop\Ganong\SLIKE\XXIX POGLAVLjE\PNG\Gan024_Slika_29-07.png"/>
          <p:cNvPicPr/>
          <p:nvPr/>
        </p:nvPicPr>
        <p:blipFill>
          <a:blip r:embed="rId1"/>
          <a:stretch/>
        </p:blipFill>
        <p:spPr>
          <a:xfrm>
            <a:off x="1332000" y="1413000"/>
            <a:ext cx="5976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0000"/>
                </a:solidFill>
                <a:latin typeface="Calibri"/>
              </a:rPr>
              <a:t>ЕКГ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http://www.kakopedija.com/wp-content/uploads/2013/11/ekg.jpg"/>
          <p:cNvPicPr/>
          <p:nvPr/>
        </p:nvPicPr>
        <p:blipFill>
          <a:blip r:embed="rId1"/>
          <a:stretch/>
        </p:blipFill>
        <p:spPr>
          <a:xfrm>
            <a:off x="1187280" y="3141720"/>
            <a:ext cx="69138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525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Фреквен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197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 чвор = 60-100/м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 чвор = 40-60/м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уркињева влакна = 15-40/м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60/м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брадикард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100/м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тахикард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ормула за математичко одређивањ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рчане фреквенц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ν = 60s/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04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= број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јмањи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вадратића између два узастопна R зуп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5724360" y="549360"/>
            <a:ext cx="309564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1834560" y="260280"/>
            <a:ext cx="60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реквенца –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зо одређи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56"/>
          <p:cNvPicPr/>
          <p:nvPr/>
        </p:nvPicPr>
        <p:blipFill>
          <a:blip r:embed="rId1"/>
          <a:stretch/>
        </p:blipFill>
        <p:spPr>
          <a:xfrm>
            <a:off x="4572000" y="3141720"/>
            <a:ext cx="4321080" cy="3359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64"/>
          <p:cNvPicPr/>
          <p:nvPr/>
        </p:nvPicPr>
        <p:blipFill>
          <a:blip r:embed="rId2"/>
          <a:stretch/>
        </p:blipFill>
        <p:spPr>
          <a:xfrm>
            <a:off x="108000" y="3068640"/>
            <a:ext cx="4392720" cy="34243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468360" y="1052640"/>
            <a:ext cx="7920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 одређивање фреквенце на овај начин гледамо на ЕКГ запису вертикалне дебеле црвене линије (5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5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зупца који је “пао” на једну од дебелих вертикалних линија почињемо бројање до следећег (претходног или наредног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зупца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58"/>
          <p:cNvPicPr/>
          <p:nvPr/>
        </p:nvPicPr>
        <p:blipFill>
          <a:blip r:embed="rId1"/>
          <a:stretch/>
        </p:blipFill>
        <p:spPr>
          <a:xfrm>
            <a:off x="179280" y="1413000"/>
            <a:ext cx="4753080" cy="3727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1762920" y="189000"/>
            <a:ext cx="60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реквенца –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зо одређи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40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ит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9280" y="1341360"/>
            <a:ext cx="446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итам 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же би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вилан (регуларан, срчани циклуси се смењују у једнаким временским интервалима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ЕКГ-у једнаки размаци између узастопних R зубац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правилан (ирегуларан, аритмиј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броје се најмањи квадрати између узастопних R зубаца и упоређује време (1 квадрат = 0,04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http://www.bannerhealth.com/NR/rdonlyres/5CFF4A7B-01B5-4B7A-BF9B-02737DF18C02/24233/normal_heart_rhythm.jpg"/>
          <p:cNvPicPr/>
          <p:nvPr/>
        </p:nvPicPr>
        <p:blipFill>
          <a:blip r:embed="rId1"/>
          <a:stretch/>
        </p:blipFill>
        <p:spPr>
          <a:xfrm>
            <a:off x="4788000" y="2205000"/>
            <a:ext cx="4105080" cy="144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pediatriccardiology.uchicago.edu/pp/Images/atrial_fib.jpg"/>
          <p:cNvPicPr/>
          <p:nvPr/>
        </p:nvPicPr>
        <p:blipFill>
          <a:blip r:embed="rId2"/>
          <a:stretch/>
        </p:blipFill>
        <p:spPr>
          <a:xfrm>
            <a:off x="4859280" y="4221000"/>
            <a:ext cx="396072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овина (положај) срца- средњи електрични вектор ср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920" y="148428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редњи електрични вектор срца (средњи QRS вектор)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средња јачина, смер и поларитет целокупног потенцијала сваког срчаног циклуса; смер срчаног вектора током деполаризације у фронталној рав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редњи QRS век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 одређује преко 3 или 6-осног система који се добијају укрштањем осовина свих 6 одвода фронталне равни (екстремитетни одводи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трална тачка система јесте центар тј. сред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совина одво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прецизно одређивање положаја средњег QRS вектора користи се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inthoven–ов зак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рафички Einthoven–ов троугао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ма овом закону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збир волтажа QRS комплекса I и III одвода једнак је збиру волтажа QRS комплекса II одво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овина (положај) срца- средњи електрични вектор ср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мер средњег електричног вектора срца (средњег QRS вектора) мож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е одредити  двојак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атематички = графич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рзо одређивање смера средњег QRS вект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C:\Users\Korisnik\Desktop\Ganong\SLIKE\XXIX POGLAVLjE\PNG\Gan024_Slika_29-08.png"/>
          <p:cNvPicPr/>
          <p:nvPr/>
        </p:nvPicPr>
        <p:blipFill>
          <a:blip r:embed="rId1"/>
          <a:stretch/>
        </p:blipFill>
        <p:spPr>
          <a:xfrm>
            <a:off x="684360" y="3357720"/>
            <a:ext cx="7488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Вектор ср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кретање осовине улево (левограм) постоји када се израчуната осовина срца налази лево од -30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кретање удесно (деснограм) постоји када се осовина налази десно од +110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кретање осовине удесно указује на хипертрофију десне комо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кренање осовине улево указује на хипертрофију леве коморе, мада за то стање постоји бољи и поузданији екектрокардиографски критерију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Електрокардиогр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 обзиром на то да телесне течности добро проводе електричне потенцијале, укупне промене потенцијала могу се забележити и ван срчаног мишић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пис промена потенцијала током срчаног циклуса назива с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лектрокардиогр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ЕКГ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парат којим се региструју акциони потенцијали срца зове с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лектрокардиогра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0560" y="333000"/>
            <a:ext cx="88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иструје се на посебном папиру који је подељен на милиметре вертикалним и хоризонталним линијама а на сваких 5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m линије су подебљ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рзина кретања папира при регистровању износи 25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m/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Хоризонтална оса - време (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4 s), вертикална оса - волтажа (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m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sweethaven02.com/MedTech/CardiacRhythm/571.ht4.gif"/>
          <p:cNvPicPr/>
          <p:nvPr/>
        </p:nvPicPr>
        <p:blipFill>
          <a:blip r:embed="rId1"/>
          <a:stretch/>
        </p:blipFill>
        <p:spPr>
          <a:xfrm>
            <a:off x="1332000" y="4365720"/>
            <a:ext cx="60768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Интерпретација ЕКГ–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08000" y="1568520"/>
            <a:ext cx="878508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08000" y="-360"/>
            <a:ext cx="518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КГ запис је бифазичан (када је правац деполаризације под углом од 90° према осовини одвода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лови ЕКГ–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ала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деполаризација претком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о постоји →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усни ритам (из SA чвора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о не постоји →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најчешће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дални ритам (из AV чвор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јањ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5-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krivulja"/>
          <p:cNvPicPr/>
          <p:nvPr/>
        </p:nvPicPr>
        <p:blipFill>
          <a:blip r:embed="rId1"/>
          <a:stretch/>
        </p:blipFill>
        <p:spPr>
          <a:xfrm>
            <a:off x="5148360" y="1125360"/>
            <a:ext cx="3995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08000" y="-360"/>
            <a:ext cx="518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Q сегмент = плато фаза потенцијала преткоморског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окарда,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пагација импулса кроз AV чвор и Хисов сноп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оелектричан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Q интервал = деполаризација преткомора, AV чвора и Хисовог снопа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-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Q интервал = Р талас + РQ сегме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krivulja"/>
          <p:cNvPicPr/>
          <p:nvPr/>
        </p:nvPicPr>
        <p:blipFill>
          <a:blip r:embed="rId1"/>
          <a:stretch/>
        </p:blipFill>
        <p:spPr>
          <a:xfrm>
            <a:off x="5148360" y="1125360"/>
            <a:ext cx="3995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446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R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комплек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деполаризација ком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-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сегмент =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ато фаза потенцијала коморског миокар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оелектрича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T интервал = целокупна електрична активност ком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QR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комплекс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сегмент + T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талас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-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тала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реполаризација ком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-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krivulja"/>
          <p:cNvPicPr/>
          <p:nvPr/>
        </p:nvPicPr>
        <p:blipFill>
          <a:blip r:embed="rId2"/>
          <a:stretch/>
        </p:blipFill>
        <p:spPr>
          <a:xfrm>
            <a:off x="4643280" y="1125360"/>
            <a:ext cx="410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57:51Z</dcterms:created>
  <dc:creator>Maja</dc:creator>
  <dc:description/>
  <dc:language>en-US</dc:language>
  <cp:lastModifiedBy>х</cp:lastModifiedBy>
  <dcterms:modified xsi:type="dcterms:W3CDTF">2019-03-24T19:45:29Z</dcterms:modified>
  <cp:revision>211</cp:revision>
  <dc:subject/>
  <dc:title>Slide 1</dc:title>
</cp:coreProperties>
</file>