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24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21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51E-C3A3-464D-B039-80527EC6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D7B-85BB-48FE-862D-6F6ACA22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F95-8CC4-432D-812A-A3E86730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54D-6D0C-40A1-986D-EB6EA1C5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EC0-1595-4AAE-801A-A4B6AA82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6AD-335E-4B21-9D1B-F4B2572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ABB-0640-4BE3-9EDE-B270F058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39D-8AFC-4509-A05B-B58AAA5C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044-62EE-48AB-8C11-72C5048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F07-A979-4A92-AC07-3AB58D48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F72-CA9C-4FF1-A914-FE4BCA2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EEF-C360-4D7E-9EDF-0EC2055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BFE-2295-4EDB-ACDE-323B5FB6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332000" y="19162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И ФИЗИОЛОГИЈЕ ЧОВЕ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332000" y="3068640"/>
            <a:ext cx="6624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. наставна јединица (сед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ологиј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3789000" y="1503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2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14480" y="58262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ф. др Владимир Жив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8960" y="1197000"/>
            <a:ext cx="8506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4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ировни мембрански потенција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дност мировног мембранског потенцијала је око -90 mV, што је приближно равнотежном потенцијал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ком мировног мембранског потенцијала количина јона која уђе у кардиомиоците и која из њих изађе је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иближно и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862360" y="3500280"/>
            <a:ext cx="3419280" cy="2492640"/>
          </a:xfrm>
          <a:prstGeom prst="rect">
            <a:avLst/>
          </a:prstGeom>
          <a:ln w="0">
            <a:noFill/>
          </a:ln>
        </p:spPr>
      </p:pic>
      <p:sp>
        <p:nvSpPr>
          <p:cNvPr id="87" name="Oval 4"/>
          <p:cNvSpPr/>
          <p:nvPr/>
        </p:nvSpPr>
        <p:spPr>
          <a:xfrm>
            <a:off x="5940360" y="5589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Природа и ширење ек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цитације кроз с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проводни систем срц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ине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нтернодал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о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предњи, средњи и задњи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исов сн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уркињеов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лак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7199280" cy="3819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44360" y="4941720"/>
            <a:ext cx="3203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томска локализација делова спроводног система срца и изглед њиховог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05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е налази на споју горње шупље вене и десне преткоморе, док с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налази у задњем десном делу интератријалног септ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стоје три снопа преткоморских влакана која повезују SA чвор са 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вором: предњи, сре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енкебах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enckebac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Торел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hore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се наставља Хисовим снопом, који се на врху интервентрикуларног септума дели на леву и десну гран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ране и снопови се простиру наниже у субендокардијалном слоју са сваке стране септума и ступају у контакт са Пуркињеовим системом, чија се влакна шире до свих делова миокарда ком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елије које ритмички окидају акционе потенцијале имај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мембранске потенцијале који се након сваког импулс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иближавају нивоу прага окидањ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ав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дводничк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узрокује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станак следећег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физиолошким услов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редводник срчаног рит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pacemake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одређеним патолошким стањима када ј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упримиран, улогу предводника срчаног ритма преуз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, Хисов сноп или Пуркињеова влакна, због чега се ови делови спроводног система називају “латентним” предводницима срчаног рит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роводни систем срца састављен је од модификованог срчаног мишића који има мање пруга и нејасне границ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кциони потенцијал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фазе 1 и 2 које постоје у акционом потенцијалу преткомора, комора и Пуркињеових влак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4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стабила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мировни мембрански потенцијал ил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стаје услед постојања канала који су пропустљиви з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последичног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ог уласка јон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у ћел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3635280" y="5805360"/>
            <a:ext cx="28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ви канали се активирају одмах након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хиперполаризац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по завршеној реполаризациј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ју се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н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ли због њихове неуобичајене (е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шне) активације називају се 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и, а струја која настаје проласком јона кроз ове канале назива се смешна струја ил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874960" y="429084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3635280" y="5373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4716000" y="5832000"/>
            <a:ext cx="1080" cy="550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TextBox 11"/>
          <p:cNvSpPr/>
          <p:nvPr/>
        </p:nvSpPr>
        <p:spPr>
          <a:xfrm>
            <a:off x="3708360" y="630864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Хиперполаризација и активациј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„h”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ка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епено повећање мембранског потенцијала током фазе 4 изазива отварање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порих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ск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след отварањ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лазе у ћелију у изазивају д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фазе 0 у преткоморама, коморама и Пуркињеовим влакнима која настаје услед уласка јон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у настаје услед уласка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3851280" y="5300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3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 врху сваког импулса повећава се пропустљивост мембране за калијум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и повећан излазак јон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ћелије изазива р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е 1 и 2 акционог потенцијала претокомора, комора и Пуркињеових влакан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посто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акционом потенцијал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74960" y="43624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13" name="Oval 5"/>
          <p:cNvSpPr/>
          <p:nvPr/>
        </p:nvSpPr>
        <p:spPr>
          <a:xfrm>
            <a:off x="4427640" y="4941720"/>
            <a:ext cx="360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за 4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краћ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траје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с-Пуркињеовом систем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о је у физиолошким услови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предводник срчаног 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 стварања импулса у појединим деловима спроводног сис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– од 60 до 100 импулса у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чвор – од 40 до 60 импулса и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кињеова влакна – од 15 до 40 импулса у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ина спровође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мпулса ј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чв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даје довољно времена да се коморе напуне крвљу пре контракције, 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омогућава да се сви делови комора контрахују истовреме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28720" y="3573360"/>
            <a:ext cx="56865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160" y="837720"/>
            <a:ext cx="537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030a0"/>
                </a:solidFill>
                <a:latin typeface="Arial"/>
              </a:rPr>
              <a:t>Грађа срца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прет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етири зал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триовентрику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трикуспидни ( три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митрални ( два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"/>
          <p:cNvPicPr/>
          <p:nvPr/>
        </p:nvPicPr>
        <p:blipFill>
          <a:blip r:embed="rId1"/>
          <a:stretch/>
        </p:blipFill>
        <p:spPr>
          <a:xfrm>
            <a:off x="4714920" y="35712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фаза 0, 1 и 2, као и током половине фазе 3 акционог потенцијала комора и преткомора, односно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к мембрански потенцијал не достигне приближно –50 mV за време реполаризације, срчани мишић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бити поново надраже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оком ових фаза акционог потенцијала срчани мишић се налази 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псолутном рефракторном периоду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Апсолутни рефрактарни период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време током ког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мож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а се изазове без обзира на јачину стимулуса, јер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који узрокују деполаризацију још увек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инактивираном стањ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руга половина реполаризације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лативни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ефрактарни перио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релативног рефрактарног период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да се изазове, али је потребан знатно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тимулус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јер је део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ш увек у инактивираном стању, 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су још увек отвор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ојање дугог рефрактарног периода </a:t>
            </a:r>
            <a:r>
              <a:rPr b="0" lang="sr-CS" sz="2300" spc="-1" strike="noStrike" u="sng">
                <a:solidFill>
                  <a:srgbClr val="000000"/>
                </a:solidFill>
                <a:uFillTx/>
                <a:latin typeface="Arial"/>
              </a:rPr>
              <a:t>спречава тетанизацију срчаног мишић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која би била летална у било ком период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30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онтрактилни одговор срчаног мишића започињ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посредно након почетка деполаризације, при чему је време трајања контракције приближно 50% дуже од времена трајања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Ћелијска мембрана кардиомиоцита прави дубоке инвагинације у област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линија које се називај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-тубу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-тубули омогућавају преношење акционог потенцијала у унутрашњост ћел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ине тубули малог дијаметра који се налазе у близини контрактилних филамена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ркоплазматски ретикулум представља депо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је неопходан за контрак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82720" y="765000"/>
            <a:ext cx="7378560" cy="5896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826920" y="6237360"/>
            <a:ext cx="289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скелетног мишића где се са стране Т-тубула налазе цистерне саркоплазматског ретикулума, образујући тријаде, у срчаном мишићу нема тако правилног распореда ових структу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мембрани Т-тубула се налаз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ихидропиридински рецептор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HP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, који су волтаж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и који се активирају током деполаризације и омогућавају улазак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у кардиомиоци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се везује з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ијанодинск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цепто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y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на саркоплазматском ретикулу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ијанодински рецептори су лиганд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Лиганд за ријанодинске рецепторе ј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улази у кардиомиоците из екстрацелуларног прост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тога се ослобађ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саркоплзматског ретикулума, посредством ријанодинских рецептора, који се активирају дејс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вом екстрацепуларног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који улази кроз дихидропиридинске рецепторе, назив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ом индуковано ослобађање калцију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332000" y="3798720"/>
            <a:ext cx="6654600" cy="3059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258920" y="378936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435640" y="378936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361680" y="4221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836520" y="5445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612520" y="5364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81768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08096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76364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594036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960" y="1125360"/>
            <a:ext cx="85741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омогућавања релаксације срчаног мишића и пуњења срца крвљу врло је значајно адекватно уклањање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враћају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саркоплазматска)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ATP-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з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избацују у екстрацелуларни простор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/C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измењивач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на чију функцију утиче концентрациј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цитоплазми (коју контролиш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, 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аза), као и дејством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а се налази на ћелијској мембрани кардиомиоци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Ефикасно уклањ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 помоћу наведених система омогућава релаксацију миокарда и адекватно пуњење комора крвљ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556000" y="2781360"/>
            <a:ext cx="41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Срчани цик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4" descr="animacija"/>
          <p:cNvPicPr/>
          <p:nvPr/>
        </p:nvPicPr>
        <p:blipFill>
          <a:blip r:embed="rId1"/>
          <a:stretch/>
        </p:blipFill>
        <p:spPr>
          <a:xfrm>
            <a:off x="2127240" y="1920960"/>
            <a:ext cx="5214960" cy="4603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914400" y="52560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РЦЕ СВАКОДНЕВНО МОЖЕ ДА ОСТВАРИ ОКО 100.000 ОТКУЦАЈА ОНДА И МИ  МОЖЕМО ДА УСВОЈИМО СВАКУ ФИНЕСУ О СРЧАНОМ ЦИКЛУСУ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2627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СРЧАНИ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79280" y="2060640"/>
            <a:ext cx="393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А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(atrio-ventrikularne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лвуле (трикуспидална и митрална валвула) спречавају да се крв за време систоле враћа из комора у прет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378936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емилунарне валвул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валвула аорте и валвула пулмоналне артерије) за време дијастоле спречавају да се крв враћа из аорте и плућне артерије у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чане валвуле се пасивно отварају и затварају као последица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радијента прит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3780000" y="1844640"/>
            <a:ext cx="5929200" cy="45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332000" y="477360"/>
            <a:ext cx="65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АПИЛАРНИ МИШИ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4613040" cy="48261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79280" y="206064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пиларни мишић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hordae tendinea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чвршћују за ивице валвула се контрахују када се зидови комора контрахују, и не помажу затварање валвула. Њихова функција је да вуку залиске у коморе, па се за време систоле комора валвуле не могу превише избочити у прет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ij"/>
          <p:cNvPicPr/>
          <p:nvPr/>
        </p:nvPicPr>
        <p:blipFill>
          <a:blip r:embed="rId1"/>
          <a:stretch/>
        </p:blipFill>
        <p:spPr>
          <a:xfrm>
            <a:off x="6329520" y="3173400"/>
            <a:ext cx="2814480" cy="368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sis"/>
          <p:cNvPicPr/>
          <p:nvPr/>
        </p:nvPicPr>
        <p:blipFill>
          <a:blip r:embed="rId2"/>
          <a:stretch/>
        </p:blipFill>
        <p:spPr>
          <a:xfrm>
            <a:off x="0" y="3168720"/>
            <a:ext cx="2811600" cy="3689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54144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Срчани цикл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ериод од почетка је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до почетка друг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е (контракције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столе (релакс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Vladimir Zivkovic\Desktop\GANONG\SLIKE\XXX POGLAVLjE\PNG\Gan024_Slika_30-01.png"/>
          <p:cNvPicPr/>
          <p:nvPr/>
        </p:nvPicPr>
        <p:blipFill>
          <a:blip r:embed="rId1"/>
          <a:srcRect l="0" t="0" r="0" b="53430"/>
          <a:stretch/>
        </p:blipFill>
        <p:spPr>
          <a:xfrm>
            <a:off x="1116000" y="2997360"/>
            <a:ext cx="77454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Vladimir Zivkovic\Desktop\GANONG\SLIKE\XXX POGLAVLjE\PNG\Gan024_Slika_30-01.png"/>
          <p:cNvPicPr/>
          <p:nvPr/>
        </p:nvPicPr>
        <p:blipFill>
          <a:blip r:embed="rId1"/>
          <a:srcRect l="0" t="0" r="53848" b="53430"/>
          <a:stretch/>
        </p:blipFill>
        <p:spPr>
          <a:xfrm>
            <a:off x="4572000" y="213372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324000" y="2276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 почетку систоле комора, АV залисци се затварају, а семилунарни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ски мишић се мало скрати, интравентрикуларни притисак нагло расте (миокард притиска крв у комор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- Овај период </a:t>
            </a:r>
            <a:r>
              <a:rPr b="0" lang="ru-RU" sz="1800" spc="-1" strike="noStrike">
                <a:solidFill>
                  <a:srgbClr val="000000"/>
                </a:solidFill>
                <a:latin typeface="MinionPro-Regular"/>
              </a:rPr>
              <a:t>траје око 0,05 секунди, све док притисак у левој и десној комори не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аорти и плућној арте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 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50920" y="35733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притисак у левој и десној комори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рти (80 mmHg) и плућној артерији (10 mmHg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ази до отварања аортних и плућних залис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јекција је у почетку брза, а у даљем току систоле се успо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Vladimir Zivkovic\Desktop\GANONG\SLIKE\XXX POGLAVLjE\PNG\Gan024_Slika_30-01.png"/>
          <p:cNvPicPr/>
          <p:nvPr/>
        </p:nvPicPr>
        <p:blipFill>
          <a:blip r:embed="rId1"/>
          <a:srcRect l="46558" t="0" r="0" b="53430"/>
          <a:stretch/>
        </p:blipFill>
        <p:spPr>
          <a:xfrm>
            <a:off x="5148360" y="2492280"/>
            <a:ext cx="4608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6282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виши притисак у левој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и износи 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 mmH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у десној 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и волумен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сваком контракцијом комора у мировању избаци (70–90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си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остаје у коморама на крају систоле (50 – 6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ат енд-дијастолног волумена (130-140 ml) који се избаци при свакој систоли (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је значај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љ функциј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утни волумен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мина крви коју срце испумпа током једног минута (у миру износи 4-6 L/мин), једнака је производу ударног волумена и фреквенције ср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рог пуњења комора (дијаст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ола претком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Vladimir Zivkovic\Desktop\GANONG\SLIKE\XXX POGLAVLjE\PNG\Gan024_Slika_30-01.png"/>
          <p:cNvPicPr/>
          <p:nvPr/>
        </p:nvPicPr>
        <p:blipFill>
          <a:blip r:embed="rId1"/>
          <a:srcRect l="0" t="46576" r="0" b="0"/>
          <a:stretch/>
        </p:blipFill>
        <p:spPr>
          <a:xfrm>
            <a:off x="1332000" y="2924280"/>
            <a:ext cx="662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Vladimir Zivkovic\Desktop\GANONG\SLIKE\XXX POGLAVLjE\PNG\Gan024_Slika_30-01.png"/>
          <p:cNvPicPr/>
          <p:nvPr/>
        </p:nvPicPr>
        <p:blipFill>
          <a:blip r:embed="rId1"/>
          <a:srcRect l="0" t="46576" r="64134" b="0"/>
          <a:stretch/>
        </p:blipFill>
        <p:spPr>
          <a:xfrm>
            <a:off x="4998960" y="2060640"/>
            <a:ext cx="3894120" cy="4537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8229600" y="3068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50920" y="29973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да се залисци затворe, притисак наставља брзо да 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лунарни залисци су затворени, а   АV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 фаза се завршава када комор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исак падне испод притиска у преткоморама и АV залисци се отворе, омогућавајући пуњењ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9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Vladimir Zivkovic\Desktop\GANONG\SLIKE\XXX POGLAVLjE\PNG\Gan024_Slika_30-01.png"/>
          <p:cNvPicPr/>
          <p:nvPr/>
        </p:nvPicPr>
        <p:blipFill>
          <a:blip r:embed="rId1"/>
          <a:srcRect l="32539" t="46576" r="0" b="0"/>
          <a:stretch/>
        </p:blipFill>
        <p:spPr>
          <a:xfrm>
            <a:off x="4356000" y="2421000"/>
            <a:ext cx="4788000" cy="424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79280" y="3213000"/>
            <a:ext cx="42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V залисци су отворен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ртни и пулмонални залисци затво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в из преткомора утиче у коморе најпре брзо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а фаза брзог пуњења комора), потом споро-пасивно (дијастаза), док се преосталих 25-30% крви избаци систолом (контракцијом) преткомора у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7030a0"/>
                </a:solidFill>
                <a:latin typeface="Arial"/>
              </a:rPr>
              <a:t>Особине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окарда имају мембрански потенцијал мировања од око -90 m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међусобно раздвој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ск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мбранама, али се деполаризација, захваљујућ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зним вез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које се налаз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ркалатним дискови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iscus intercalatu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шири радиј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 миокард, услед чега се срце понаша 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5688000" cy="196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0920" y="5092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„синцицијумске” природе срчаног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Srčani ciklus - Wikipedia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iggersov dij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826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око 0,8 секунди (фреквенца 70-80/м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а комора – 1/3 времена – 0,3 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стола комора – 2/3 времена – 0,5 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а преткомора – 0,1 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стола преткомора – 0,7 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 повећањем фреквенције срца, срчани циклус се скраћ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аћење трајања систоле је последица скраћења фазе ејекције у сист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јање дијастоле се са повећањем фреквенције више смањ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чани мишић мирује током дијастоле, и коронарни проток крви кроз субендокардне делове леве коморе остварује се само у току дијаст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 пуњење је адекватно све док постоји довољан венски прилив, а минутни волумен срца расте на рачун повећања фрекве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, пуњење може бити компромитовано до т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а да се смањи минутни волумен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ћи да има продужен акциони потенцијал, срчани мишић није у стању да реагује контракцијом на нови стимулус све до пред крај иницијалне контракције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може доћи до тетанизације срчаног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1026"/>
          <p:cNvSpPr/>
          <p:nvPr/>
        </p:nvSpPr>
        <p:spPr>
          <a:xfrm>
            <a:off x="2195640" y="1916280"/>
            <a:ext cx="799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27"/>
          <p:cNvSpPr/>
          <p:nvPr/>
        </p:nvSpPr>
        <p:spPr>
          <a:xfrm flipH="1">
            <a:off x="4284360" y="19890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28"/>
          <p:cNvSpPr/>
          <p:nvPr/>
        </p:nvSpPr>
        <p:spPr>
          <a:xfrm flipV="1">
            <a:off x="2340000" y="371628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29"/>
          <p:cNvSpPr/>
          <p:nvPr/>
        </p:nvSpPr>
        <p:spPr>
          <a:xfrm flipH="1" flipV="1">
            <a:off x="4211280" y="378936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0"/>
          <p:cNvSpPr/>
          <p:nvPr/>
        </p:nvSpPr>
        <p:spPr>
          <a:xfrm>
            <a:off x="960480" y="84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31"/>
          <p:cNvSpPr/>
          <p:nvPr/>
        </p:nvSpPr>
        <p:spPr>
          <a:xfrm>
            <a:off x="1795680" y="20527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33"/>
          <p:cNvSpPr/>
          <p:nvPr/>
        </p:nvSpPr>
        <p:spPr>
          <a:xfrm>
            <a:off x="179280" y="447840"/>
            <a:ext cx="871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Фактори који утичу на минутни волумен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4"/>
          <p:cNvSpPr/>
          <p:nvPr/>
        </p:nvSpPr>
        <p:spPr>
          <a:xfrm>
            <a:off x="539640" y="1413360"/>
            <a:ext cx="27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реквенција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5"/>
          <p:cNvSpPr/>
          <p:nvPr/>
        </p:nvSpPr>
        <p:spPr>
          <a:xfrm>
            <a:off x="4643280" y="1125360"/>
            <a:ext cx="1776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6"/>
          <p:cNvSpPr/>
          <p:nvPr/>
        </p:nvSpPr>
        <p:spPr>
          <a:xfrm>
            <a:off x="468360" y="4383360"/>
            <a:ext cx="2879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онтрактил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37"/>
          <p:cNvSpPr/>
          <p:nvPr/>
        </p:nvSpPr>
        <p:spPr>
          <a:xfrm>
            <a:off x="4427640" y="472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8"/>
          <p:cNvSpPr/>
          <p:nvPr/>
        </p:nvSpPr>
        <p:spPr>
          <a:xfrm>
            <a:off x="2987640" y="315288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39"/>
          <p:cNvSpPr/>
          <p:nvPr/>
        </p:nvSpPr>
        <p:spPr>
          <a:xfrm>
            <a:off x="3132000" y="2852640"/>
            <a:ext cx="115272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468360" y="5445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LOAD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чана мишићна влакна истегнута оптерећење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 до кога се миокард истеже пре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TERLOAD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терећење притиском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кнадно оптерећење представља отпор против кога се крв истискује из ком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150px-Otto_frank_physiologist"/>
          <p:cNvPicPr/>
          <p:nvPr/>
        </p:nvPicPr>
        <p:blipFill>
          <a:blip r:embed="rId1"/>
          <a:stretch/>
        </p:blipFill>
        <p:spPr>
          <a:xfrm>
            <a:off x="2195640" y="1916280"/>
            <a:ext cx="1698480" cy="23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150px-Ernest_Starling"/>
          <p:cNvPicPr/>
          <p:nvPr/>
        </p:nvPicPr>
        <p:blipFill>
          <a:blip r:embed="rId2"/>
          <a:stretch/>
        </p:blipFill>
        <p:spPr>
          <a:xfrm>
            <a:off x="6394320" y="1916280"/>
            <a:ext cx="1863720" cy="2233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1979640" y="47628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РЕГУЛАЦИЈА РАД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68360" y="1125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rank-Starling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633680" y="45864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to 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5 -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183280" y="458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Henry 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6 –19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324000" y="5661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утономни нервни сис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атички и парасимпатички нер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28"/>
          <p:cNvSpPr/>
          <p:nvPr/>
        </p:nvSpPr>
        <p:spPr>
          <a:xfrm>
            <a:off x="-58680" y="620640"/>
            <a:ext cx="9183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АУТОРЕГУЛАЦИЈА СРЧАН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-Starling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граница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це ће испумпати сву крв која у њега дође,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вољавајући да се превелика количина крви накуп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е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29"/>
          <p:cNvSpPr/>
          <p:nvPr/>
        </p:nvSpPr>
        <p:spPr>
          <a:xfrm>
            <a:off x="635040" y="3141720"/>
            <a:ext cx="65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ФЕКТИ НА СР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0" t="30823" r="0" b="49418"/>
          <a:stretch/>
        </p:blipFill>
        <p:spPr>
          <a:xfrm>
            <a:off x="34920" y="4508640"/>
            <a:ext cx="9109080" cy="1152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rcRect l="0" t="-240" r="0" b="87550"/>
          <a:stretch/>
        </p:blipFill>
        <p:spPr>
          <a:xfrm>
            <a:off x="34920" y="3789360"/>
            <a:ext cx="9109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403280" y="105264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900000" y="2492280"/>
            <a:ext cx="75438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АУТОНОМНИ ЕФЕКТИ НА СРЦ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838080" y="1142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cc"/>
                </a:solidFill>
                <a:latin typeface="Arial"/>
              </a:rPr>
              <a:t>Аутономни ефекти на срцу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198240" y="2511360"/>
            <a:ext cx="44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ронотропни 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853720" y="302256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ромотроп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отропни 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атмотроп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2280" y="996480"/>
            <a:ext cx="899172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Дефиниције хронотропних и дромотропних еф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lphaLcPeriod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Хрон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воде до промена срчаног рит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е 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настаје 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а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а брз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њем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оних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11280" y="1413000"/>
            <a:ext cx="7920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б.  Дром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промене у брзини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о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дромотропни ефека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мањење брзине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рава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ђење 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 и продуж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дром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 повећањ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рзава се провођ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ора и скраћ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7030a0"/>
                </a:solidFill>
                <a:latin typeface="Arial"/>
              </a:rPr>
              <a:t>Акциони потенцијали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 разлике у изгледу акционих потенцијала у појединим деловима с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упадљивија карактеристика акционог потенцијала кардиомиоцита преткомора, комора и Пуркињеових влакана је постој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ато ф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услед чега контракција срчаног мишића траје знатно дуже у односу на скелетни миши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286240" y="3573360"/>
            <a:ext cx="382284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0" y="3860640"/>
            <a:ext cx="55087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 кардиомиоцита преткомора, комора и Пуркињеових влакана састоји се из следећих ф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– д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1 – почетна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2 – плато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3 –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– мировни мембранск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5800" y="1343880"/>
            <a:ext cx="77724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Парасимпатички ефекти на фреквенцију срца и брзину провођ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коморе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асимпатичку вагусну инерв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к је коморе не посед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трансмитер ј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етилхол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ACh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везује 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олиноцепторе пејсмејкерских ћел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50920" y="476280"/>
            <a:ext cx="84978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егативни хрон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ује се фреквенција срц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жењем трајања фазе 4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њи бр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кционих потенцијала се јавља у јединици времена јер се праг потенцијала достиже спорије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33cc"/>
                </a:solidFill>
                <a:latin typeface="Arial"/>
              </a:rPr>
              <a:t>Механиза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ог хронотропног еф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н улазак позитивних јо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фазе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порије се достиже праг окидања - нагиб препотенцијала је мањи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не пропустљивости мембра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иј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жи и/или већи излазак јона калијума из ћел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чиме с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негативност унутар влак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оларизаци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ед хиперполаризације спорије се достиже праг окидања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синусном чвору стање хиперполаризације смањује потенцијал “мировања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а вредност негативнију него обично, на -65 до -7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уместо на -55 до 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четно повећање мембранског потенцијала синусног чвора узроковано цурењем јона натријума кроз мембрану траје дуже, док потенцијал не достигне праг за раздражење. То веома успорава ритмичност нодалних вл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1125360"/>
            <a:ext cx="8569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ега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ује се брзина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дужава 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преносе спор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ог дромотропног ефек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ен улазак позитив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н излаза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700360" y="4076640"/>
            <a:ext cx="388764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9640" y="69048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Симпатички ефекти на фреквенцију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и брзину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уротрансмитер је </a:t>
            </a:r>
            <a:r>
              <a:rPr b="1" lang="sr-CS" sz="2000" spc="-1" strike="noStrike">
                <a:solidFill>
                  <a:srgbClr val="0033cc"/>
                </a:solidFill>
                <a:latin typeface="Arial"/>
              </a:rPr>
              <a:t>норадрена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се везује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адрено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птор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4876920" y="3789360"/>
            <a:ext cx="4267080" cy="2590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179280" y="2492280"/>
            <a:ext cx="45720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cc"/>
                </a:solidFill>
                <a:latin typeface="Arial"/>
              </a:rPr>
              <a:t>Позитивни хронотропни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брзава се рад срц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реквен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аћење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ф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(брже се достиже праг окидања - нагиб препотенцијала је већ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 акционих потенцијала се јавља у јединици вре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 се праговни потенцијал достиже брже а самим тим и 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ам позитивног хронотропног ефекта  је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повећан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ак позитивних натријумових ј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су одговорни за фаз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билног мировног потенциј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755640" y="692280"/>
            <a:ext cx="79200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ози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брзину провођења 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 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е брже од преткомора до комора тако да пуњење комора може бити смање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 позитивног дромотропног ефекта  је повећан улазак позитивних јона 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(повећана проводљивост з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смањене проводљивости з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36907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403560"/>
            <a:ext cx="8497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онтракт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 унутрашње својство срчаног мишића да развије силу за дату дужину мишић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То се другачије зове </a:t>
            </a:r>
            <a:r>
              <a:rPr b="0" lang="sr-CS" sz="2200" spc="-1" strike="noStrike">
                <a:solidFill>
                  <a:srgbClr val="0033cc"/>
                </a:solidFill>
                <a:latin typeface="Arial"/>
              </a:rPr>
              <a:t>инотропиза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и од интрацелуларне 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подсетимо се да интрацелуларн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 срчаном мишићу потиче једним делом из екстрацелуларног простора а другим делом из саркоплазматског ретикулума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же да се проц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ко ејекционе фрак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дар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јасто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а нормално изно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0.55 (5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33cc"/>
                </a:solidFill>
                <a:latin typeface="Arial"/>
              </a:rPr>
              <a:t>Инотропни ефе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зитивни инотропни 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азивају повећ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гативни инотропни 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азивају смањ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324000" y="767520"/>
            <a:ext cx="8640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позитиван инотропни ефекат</a:t>
            </a: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.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овећање фреквенције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е више акционих потенцијала јави у јединици вре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и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 срца током фазе платоа акцион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ослобађа из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R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већи је и напон који се развија током контр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повећана срчана фреквенција повећава постепено силу контракције у оној мери колико се интрацелуларна 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умулативно током неколико откуцаја ср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кстрасисто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акција која се јавља после екстрасистоле има већу силу усл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улази у ћелије током екстрасисто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343400" cy="258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395280" y="765000"/>
            <a:ext cx="83534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Симпатичка стимулација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катехоламини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реко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99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 снагу контракције преко два 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ћелиј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плато фазе сваког акционог потенцијала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ем актив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мп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сфорилациј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осфоламба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 резултира у већој акумулациј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на тај начин је 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ступно за ослобађање у наредном перио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484360" y="3500280"/>
            <a:ext cx="4751640" cy="3049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250920" y="476280"/>
            <a:ext cx="889308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Кардиотонични гликозиди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дигиталис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ју снагу контракције на тај начин што инхибирај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AT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зу на мемб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чан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резултат ове инхиби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целула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центрација јо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повећ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ујући градијен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 ћелијску мембра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3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 којим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бац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и од величине градијента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у да је смањ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повећањ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целуларног 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981080" y="2073960"/>
            <a:ext cx="655344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080" rIns="2993040" tIns="914040" bIns="45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68360" y="981000"/>
            <a:ext cx="8137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Фактори који смањују контракт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33cc"/>
                </a:solidFill>
                <a:latin typeface="Arial"/>
              </a:rPr>
              <a:t>негативни инотропни ефекат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расимпатичка стимул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је фреквенција срчаног рада ниска, улазак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 све време мањи, остављајући довољно времена за излазак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змеђу акционих потенцијала. Просечна концентрација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 цитосолу се смањује и контрактилност је ниска. Парасимпатичка влакна испољавају негативан инотропан ефекат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фреквенцијски инотропиза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амо преко овог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ех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0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 представљ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рзу д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роз брзе, волтаж-зависне натријумске канале (натријумска струја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при чему вердност мембранског потенцијала тежи да достигне равнотежни потенцијал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708280" y="3213000"/>
            <a:ext cx="3727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Oval 7"/>
          <p:cNvSpPr/>
          <p:nvPr/>
        </p:nvSpPr>
        <p:spPr>
          <a:xfrm>
            <a:off x="3635280" y="4653000"/>
            <a:ext cx="2890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348000" y="602136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четну 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тварања канала за натр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услед чега се смањује количина позитивног наелектрисања које улази у ћелију,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отварања канала за калију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услед чега се повећава количина позитивног наелектрисања које излази из ћел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3041640" y="3141720"/>
            <a:ext cx="3060720" cy="28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3041640" y="5950080"/>
            <a:ext cx="3060720" cy="507960"/>
          </a:xfrm>
          <a:prstGeom prst="rect">
            <a:avLst/>
          </a:prstGeom>
          <a:ln w="0">
            <a:noFill/>
          </a:ln>
        </p:spPr>
      </p:pic>
      <p:sp>
        <p:nvSpPr>
          <p:cNvPr id="67" name="Oval 7"/>
          <p:cNvSpPr/>
          <p:nvPr/>
        </p:nvSpPr>
        <p:spPr>
          <a:xfrm>
            <a:off x="3924360" y="314172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708360" y="5445000"/>
            <a:ext cx="2872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3708360" y="6093000"/>
            <a:ext cx="2872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лато фаз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пролазног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пуст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мембране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усл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ијег и продуженог отварања волтаж-зависних канала за калцијум и уласк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у кардиомиоците (C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руја, I</a:t>
            </a:r>
            <a:r>
              <a:rPr b="0" lang="sr-CS" sz="2200" spc="-1" strike="noStrike" baseline="-25000">
                <a:solidFill>
                  <a:srgbClr val="000000"/>
                </a:solidFill>
                <a:latin typeface="Arial"/>
              </a:rPr>
              <a:t>C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као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вод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746680" y="3141720"/>
            <a:ext cx="3384720" cy="246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5746680" y="5589720"/>
            <a:ext cx="3384720" cy="1157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0" y="3284640"/>
            <a:ext cx="52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личина 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уђе у кардиомиоците и К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изађе је приближно иста, па се потенцијал мембране одржава на плато нив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236000" y="335772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588000" y="5732640"/>
            <a:ext cx="165600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6659640" y="6165720"/>
            <a:ext cx="165744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нала з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спорог, одложеног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ласк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ћелије кроз калијумске канале, при чему се потенцијал враћа на вредности мировног мембранског потенција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62360" y="3313080"/>
            <a:ext cx="3419280" cy="24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2862360" y="5818320"/>
            <a:ext cx="3419280" cy="56340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5364000" y="587700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Suzana Pantovic</cp:lastModifiedBy>
  <dcterms:modified xsi:type="dcterms:W3CDTF">2023-03-31T10:27:41Z</dcterms:modified>
  <cp:revision>88</cp:revision>
  <dc:subject/>
  <dc:title>Физиологија срца</dc:title>
</cp:coreProperties>
</file>